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2E68-3856-424A-A145-C9F13A65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3F6-95F7-428B-90E3-3B6466B0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D5F-CB09-413C-A31C-942EB1E1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F703-F02F-426B-82D7-F112DDE6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AC43-0122-40BB-9446-99EEDCA6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DDF8-7883-46FB-966B-342F2715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4C58-EFFC-45B3-9172-BC9E3923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9910-1F10-4226-A06B-BDE7C457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AFF1-259E-4A96-B770-0E6FC5DD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FF32-37D0-4603-A9F6-0505231A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1FC1-B132-45ED-AB50-243B6FA2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1C56-655B-4D42-BC2A-314982AD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B6BC-BBB4-43D7-A110-BAFA9AA5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CFCB-0DB5-4874-A3DE-CA18E166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8FE8-F475-4367-846D-811338B1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6D50-DEAF-4BB2-956D-6EEADDAD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C3AC-21F6-4708-A7B6-F4AE416E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76B2-20D2-4225-9B00-6514B249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4ABF-1007-47EE-AC16-849F6130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9DF5-E0C4-4BFD-BCE8-63FE8488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031-99B6-4DFB-8A22-2681B190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2DEF-8123-4AB0-A80A-A8A304DF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F41-B2D6-4F36-93FA-53CB3AA7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68C6-575E-42DF-B7E0-B87D439F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2A65-AB26-4E0B-9A3B-D8F6906E9F1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944F-2985-47AC-81CC-AD5CC45D91D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زياح مار الياس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مَار الياس نَذِيرَ الحَاكِمِينْ، بَشِيرَ الرجاءِ إلى العالَمِين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ِليكَ تَهِفُّ القُلُوبْ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تى ضايَقَتْنا الكُرُوب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تَشَفَّعْ إلى الربِّ</a:t>
            </a:r>
            <a:br>
              <a:rPr sz="10800"/>
            </a:b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من أجلنا، يُسَدِّدْ خُطَانا وَيَرْأَفْ بـِنَا.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هِيبُ المَحَبَّةِ في قَلْبـِ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ذَابَ الحَواجِزَ مِنْ دَرْبـِ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ُهَاثُ النَسِيمِ على جَنْبـِكَ، أفاضَ الرجاءَ على كَرْبـِ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إِيمانُكَ الحَيُّ هَزَّ السماءْ، فَجَاوَبَتِ النارُ حَرَّ الدُّعاء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إيمانُكَ الحَيُّ قالَ وَشَاءْ: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لى الأرضِ لا كانَ غَيمٌ وماءْ!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إيمانُكَ الحَيُّ قالَ: اسْكُبي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يا أرضُ بَعْدَ الظَّماءِ اشْرَب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إيمانُكَ الحَيُّ لَمْ يَكْذِبِ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ادَ إلى الجِسْمِ رُوحَ الصَّب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ِلَيكَ أَيا سَاكِنَ السَّمواتْ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تَحِنُّ لَواعِجُنا الظَّامِئـَات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ـِجَاهِ نَبيِّكَ، هَبْنَا الثـَّباتْ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لى سُبُلِ البرِّ حتَّى الـمَمَاتْ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-</cp:lastModifiedBy>
  <dcterms:modified xsi:type="dcterms:W3CDTF">2002-12-13T12:00:07Z</dcterms:modified>
  <cp:revision>14</cp:revision>
  <dc:subject/>
  <dc:title>Slide 1</dc:title>
</cp:coreProperties>
</file>